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  <p:sldId id="319" r:id="rId85"/>
    <p:sldId id="320" r:id="rId86"/>
    <p:sldId id="321" r:id="rId87"/>
    <p:sldId id="322" r:id="rId88"/>
    <p:sldId id="323" r:id="rId89"/>
    <p:sldId id="324" r:id="rId90"/>
    <p:sldId id="325" r:id="rId91"/>
    <p:sldId id="326" r:id="rId92"/>
    <p:sldId id="327" r:id="rId93"/>
    <p:sldId id="328" r:id="rId94"/>
    <p:sldId id="329" r:id="rId95"/>
    <p:sldId id="330" r:id="rId96"/>
    <p:sldId id="331" r:id="rId97"/>
    <p:sldId id="332" r:id="rId98"/>
    <p:sldId id="333" r:id="rId99"/>
    <p:sldId id="334" r:id="rId100"/>
    <p:sldId id="335" r:id="rId101"/>
    <p:sldId id="336" r:id="rId102"/>
    <p:sldId id="337" r:id="rId103"/>
    <p:sldId id="338" r:id="rId104"/>
    <p:sldId id="339" r:id="rId105"/>
    <p:sldId id="340" r:id="rId106"/>
    <p:sldId id="341" r:id="rId107"/>
    <p:sldId id="342" r:id="rId108"/>
    <p:sldId id="343" r:id="rId109"/>
    <p:sldId id="344" r:id="rId110"/>
    <p:sldId id="345" r:id="rId111"/>
    <p:sldId id="346" r:id="rId112"/>
    <p:sldId id="347" r:id="rId113"/>
    <p:sldId id="348" r:id="rId114"/>
    <p:sldId id="349" r:id="rId115"/>
    <p:sldId id="350" r:id="rId116"/>
    <p:sldId id="351" r:id="rId117"/>
    <p:sldId id="352" r:id="rId118"/>
    <p:sldId id="353" r:id="rId119"/>
    <p:sldId id="354" r:id="rId120"/>
    <p:sldId id="355" r:id="rId121"/>
    <p:sldId id="356" r:id="rId122"/>
    <p:sldId id="357" r:id="rId123"/>
    <p:sldId id="358" r:id="rId124"/>
    <p:sldId id="359" r:id="rId125"/>
    <p:sldId id="360" r:id="rId126"/>
    <p:sldId id="361" r:id="rId127"/>
    <p:sldId id="362" r:id="rId128"/>
    <p:sldId id="363" r:id="rId129"/>
    <p:sldId id="364" r:id="rId130"/>
    <p:sldId id="365" r:id="rId131"/>
    <p:sldId id="366" r:id="rId132"/>
    <p:sldId id="367" r:id="rId133"/>
    <p:sldId id="368" r:id="rId134"/>
    <p:sldId id="369" r:id="rId135"/>
    <p:sldId id="370" r:id="rId136"/>
    <p:sldId id="371" r:id="rId137"/>
    <p:sldId id="372" r:id="rId138"/>
    <p:sldId id="373" r:id="rId139"/>
    <p:sldId id="374" r:id="rId140"/>
    <p:sldId id="375" r:id="rId141"/>
    <p:sldId id="376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slide" Target="slides/slide64.xml"/><Relationship Id="rId86" Type="http://schemas.openxmlformats.org/officeDocument/2006/relationships/slide" Target="slides/slide65.xml"/><Relationship Id="rId87" Type="http://schemas.openxmlformats.org/officeDocument/2006/relationships/slide" Target="slides/slide66.xml"/><Relationship Id="rId88" Type="http://schemas.openxmlformats.org/officeDocument/2006/relationships/slide" Target="slides/slide67.xml"/><Relationship Id="rId89" Type="http://schemas.openxmlformats.org/officeDocument/2006/relationships/slide" Target="slides/slide68.xml"/><Relationship Id="rId90" Type="http://schemas.openxmlformats.org/officeDocument/2006/relationships/slide" Target="slides/slide69.xml"/><Relationship Id="rId91" Type="http://schemas.openxmlformats.org/officeDocument/2006/relationships/slide" Target="slides/slide70.xml"/><Relationship Id="rId92" Type="http://schemas.openxmlformats.org/officeDocument/2006/relationships/slide" Target="slides/slide71.xml"/><Relationship Id="rId93" Type="http://schemas.openxmlformats.org/officeDocument/2006/relationships/slide" Target="slides/slide72.xml"/><Relationship Id="rId94" Type="http://schemas.openxmlformats.org/officeDocument/2006/relationships/slide" Target="slides/slide73.xml"/><Relationship Id="rId95" Type="http://schemas.openxmlformats.org/officeDocument/2006/relationships/slide" Target="slides/slide74.xml"/><Relationship Id="rId96" Type="http://schemas.openxmlformats.org/officeDocument/2006/relationships/slide" Target="slides/slide75.xml"/><Relationship Id="rId97" Type="http://schemas.openxmlformats.org/officeDocument/2006/relationships/slide" Target="slides/slide76.xml"/><Relationship Id="rId98" Type="http://schemas.openxmlformats.org/officeDocument/2006/relationships/slide" Target="slides/slide77.xml"/><Relationship Id="rId99" Type="http://schemas.openxmlformats.org/officeDocument/2006/relationships/slide" Target="slides/slide78.xml"/><Relationship Id="rId100" Type="http://schemas.openxmlformats.org/officeDocument/2006/relationships/slide" Target="slides/slide79.xml"/><Relationship Id="rId101" Type="http://schemas.openxmlformats.org/officeDocument/2006/relationships/slide" Target="slides/slide80.xml"/><Relationship Id="rId102" Type="http://schemas.openxmlformats.org/officeDocument/2006/relationships/slide" Target="slides/slide81.xml"/><Relationship Id="rId103" Type="http://schemas.openxmlformats.org/officeDocument/2006/relationships/slide" Target="slides/slide82.xml"/><Relationship Id="rId104" Type="http://schemas.openxmlformats.org/officeDocument/2006/relationships/slide" Target="slides/slide83.xml"/><Relationship Id="rId105" Type="http://schemas.openxmlformats.org/officeDocument/2006/relationships/slide" Target="slides/slide84.xml"/><Relationship Id="rId106" Type="http://schemas.openxmlformats.org/officeDocument/2006/relationships/slide" Target="slides/slide85.xml"/><Relationship Id="rId107" Type="http://schemas.openxmlformats.org/officeDocument/2006/relationships/slide" Target="slides/slide86.xml"/><Relationship Id="rId108" Type="http://schemas.openxmlformats.org/officeDocument/2006/relationships/slide" Target="slides/slide87.xml"/><Relationship Id="rId109" Type="http://schemas.openxmlformats.org/officeDocument/2006/relationships/slide" Target="slides/slide88.xml"/><Relationship Id="rId110" Type="http://schemas.openxmlformats.org/officeDocument/2006/relationships/slide" Target="slides/slide89.xml"/><Relationship Id="rId111" Type="http://schemas.openxmlformats.org/officeDocument/2006/relationships/slide" Target="slides/slide90.xml"/><Relationship Id="rId112" Type="http://schemas.openxmlformats.org/officeDocument/2006/relationships/slide" Target="slides/slide91.xml"/><Relationship Id="rId113" Type="http://schemas.openxmlformats.org/officeDocument/2006/relationships/slide" Target="slides/slide92.xml"/><Relationship Id="rId114" Type="http://schemas.openxmlformats.org/officeDocument/2006/relationships/slide" Target="slides/slide93.xml"/><Relationship Id="rId115" Type="http://schemas.openxmlformats.org/officeDocument/2006/relationships/slide" Target="slides/slide94.xml"/><Relationship Id="rId116" Type="http://schemas.openxmlformats.org/officeDocument/2006/relationships/slide" Target="slides/slide95.xml"/><Relationship Id="rId117" Type="http://schemas.openxmlformats.org/officeDocument/2006/relationships/slide" Target="slides/slide96.xml"/><Relationship Id="rId118" Type="http://schemas.openxmlformats.org/officeDocument/2006/relationships/slide" Target="slides/slide97.xml"/><Relationship Id="rId119" Type="http://schemas.openxmlformats.org/officeDocument/2006/relationships/slide" Target="slides/slide98.xml"/><Relationship Id="rId120" Type="http://schemas.openxmlformats.org/officeDocument/2006/relationships/slide" Target="slides/slide99.xml"/><Relationship Id="rId121" Type="http://schemas.openxmlformats.org/officeDocument/2006/relationships/slide" Target="slides/slide100.xml"/><Relationship Id="rId122" Type="http://schemas.openxmlformats.org/officeDocument/2006/relationships/slide" Target="slides/slide101.xml"/><Relationship Id="rId123" Type="http://schemas.openxmlformats.org/officeDocument/2006/relationships/slide" Target="slides/slide102.xml"/><Relationship Id="rId124" Type="http://schemas.openxmlformats.org/officeDocument/2006/relationships/slide" Target="slides/slide103.xml"/><Relationship Id="rId125" Type="http://schemas.openxmlformats.org/officeDocument/2006/relationships/slide" Target="slides/slide104.xml"/><Relationship Id="rId126" Type="http://schemas.openxmlformats.org/officeDocument/2006/relationships/slide" Target="slides/slide105.xml"/><Relationship Id="rId127" Type="http://schemas.openxmlformats.org/officeDocument/2006/relationships/slide" Target="slides/slide106.xml"/><Relationship Id="rId128" Type="http://schemas.openxmlformats.org/officeDocument/2006/relationships/slide" Target="slides/slide107.xml"/><Relationship Id="rId129" Type="http://schemas.openxmlformats.org/officeDocument/2006/relationships/slide" Target="slides/slide108.xml"/><Relationship Id="rId130" Type="http://schemas.openxmlformats.org/officeDocument/2006/relationships/slide" Target="slides/slide109.xml"/><Relationship Id="rId131" Type="http://schemas.openxmlformats.org/officeDocument/2006/relationships/slide" Target="slides/slide110.xml"/><Relationship Id="rId132" Type="http://schemas.openxmlformats.org/officeDocument/2006/relationships/slide" Target="slides/slide111.xml"/><Relationship Id="rId133" Type="http://schemas.openxmlformats.org/officeDocument/2006/relationships/slide" Target="slides/slide112.xml"/><Relationship Id="rId134" Type="http://schemas.openxmlformats.org/officeDocument/2006/relationships/slide" Target="slides/slide113.xml"/><Relationship Id="rId135" Type="http://schemas.openxmlformats.org/officeDocument/2006/relationships/slide" Target="slides/slide114.xml"/><Relationship Id="rId136" Type="http://schemas.openxmlformats.org/officeDocument/2006/relationships/slide" Target="slides/slide115.xml"/><Relationship Id="rId137" Type="http://schemas.openxmlformats.org/officeDocument/2006/relationships/slide" Target="slides/slide116.xml"/><Relationship Id="rId138" Type="http://schemas.openxmlformats.org/officeDocument/2006/relationships/slide" Target="slides/slide117.xml"/><Relationship Id="rId139" Type="http://schemas.openxmlformats.org/officeDocument/2006/relationships/slide" Target="slides/slide118.xml"/><Relationship Id="rId140" Type="http://schemas.openxmlformats.org/officeDocument/2006/relationships/slide" Target="slides/slide119.xml"/><Relationship Id="rId141" Type="http://schemas.openxmlformats.org/officeDocument/2006/relationships/slide" Target="slides/slide120.xml"/><Relationship Id="rId142" Type="http://schemas.openxmlformats.org/officeDocument/2006/relationships/slide" Target="slides/slide121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633-F2D4-4C00-B2C5-85F9C14F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430-0C31-49A2-8940-1924E6E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B9C98-9852-41BE-A28B-21EA1E9C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28007-D34B-4667-8CEB-030EB665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83E27-D776-4BCD-9CEA-6CFF4A72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D1774-3679-4E2E-954B-0128EB06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F4DB2-903B-4A49-B81F-6CFF863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683C4-4824-4682-9D89-0AECF63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44CF4-265E-49AC-B6F4-11A062E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934F0-F316-41A4-92C5-7B6A367A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7C520-1EF7-4A67-81C1-491F84F0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6A551-2CD5-4606-8E9D-8747FCF9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2BF-DDAA-4146-85ED-98FCC24A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8BEC4-7890-4625-BE38-4E439CA5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A4727-69BD-4832-8EC5-EA16859B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29721-A8FA-4111-B974-7C3F3719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4BEE8-7E78-40E8-B475-C46B255E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039CE-4774-4FFD-B4D3-4C67D602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8D275-D083-4536-92D9-82CCC77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9D8F6-40D0-4D77-B527-1D180E77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2DFEB-AE4B-4868-B8F9-4B75C7FC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B6988-14EF-458E-A137-DDF9E45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15163-F3A8-4388-95AE-35AE7837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17D-770F-4476-9F90-D8873710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C316C-1D10-4E1D-910F-F81773EE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79000-99AA-46C6-B553-0C26FD90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6EB28-5FAA-4115-B887-48640011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1B252-049D-48EA-9056-93392E0B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D3DEA-ED78-40FD-8AF9-44E221A5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4DDA2-5671-4AC8-9917-E91E243E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0B98B-5488-4767-9162-D47512B8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35C6C-F43D-4102-A6E8-B223EC32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36F66-C557-4AFC-B932-AD6BC4B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1FFBE-F6CE-4B4C-8C5E-81C1655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250F-6EB1-4118-840A-80BF8781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07D63-3CF0-499D-B34E-E739E703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62E6F-0BFD-423F-9274-C59A23CE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1122A-155E-452B-BBE9-F9DF2238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B092A-2B9C-4CD6-B3E0-9414676E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D0AEB-833F-4F91-9027-DAEBB871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8E558-EAC4-4E87-9B1E-D54DE66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1292B-C303-4BC0-91C8-1147745A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9EE46-EE41-432B-B630-265B6B3B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D8833-E27E-46BE-B1FD-5D20D030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5C898-D64B-4344-935E-5FBE048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A13-2623-40F6-AE05-4BE80205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43675-8CF8-4F68-9C36-401E3FAB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B1288-9F2B-4456-A27B-397D79CD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77E95-F4C0-45E2-8744-0B65F296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FB51B-CC1B-4304-B4D9-9AA45BF2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0882E-AE0C-49FE-886F-F2F478AE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8A3E9-9C86-4B62-9678-FFFCEEA6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11D22-4CAF-44C2-A5E3-5A843F18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DE0CB-3A00-4347-ABEE-C8A3FFCA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9684E-22D1-49FB-9CD8-A7DBF6E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BF1FE-108B-4FEA-9AFD-65A3F6A1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5B1B-1B46-45B4-A6A6-81530627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6C8F8-620C-4708-A7E0-3150A617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92715-817D-478B-B0D9-41CC75DD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C7665-DD82-4B1A-8348-6B2DFEF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68B95-199B-4217-AAB5-BD007BF3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E9761-FE72-4500-BC30-37127F7E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BAF8D-7BAB-434D-8A73-695F5144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64452-89DC-471F-A999-7FB3F589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C57EE-638E-44D3-B2FD-FD06C8AC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F9AF9-81D2-44BB-98C3-E1D305BD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94641-A085-4B3F-BDA0-6DB0D3AA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630B-76CC-4495-8273-9A7B27DE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AE3C8-4DE3-49EF-8FE5-884E984C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2B29D-BBEF-4D6C-9D30-DAD7B3FE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9A680-6587-4C0C-B5E2-F279E72C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E6819-85BC-42B0-B8B8-5AD4887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9A8D1-8592-4B32-B68F-6ECE993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65E5F-CB9F-4B78-AF74-5C6CA619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0AF43-0862-4C29-BD22-23A21C4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30D3C-75F0-448D-AC9E-5883C411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D2C2F-C82B-4561-98AF-B4BCE815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35FFE-7584-4261-AD2C-AF7DBE77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0B77-C49C-463C-90C4-978632A8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59173-FF11-4F49-9DA7-70918B83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C05FE-1736-44F0-BA09-1A8CB330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1E1C1-304D-424D-AE29-7A738023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4FDF7-FE79-44E7-A14F-E1F0DE4E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40F34-630C-4ACB-8F8C-64222C5B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DE7AF-0988-4641-8E7E-AF7311FA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C6FE5-2DE5-4911-B856-086DB7A8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612B9-4ED3-4519-9DF2-5E1791BA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EE1BA-1423-4A9F-AF47-CA35ABCE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A6E5C-EFC3-47D8-AAA2-337D69EF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EE02-E17F-46EB-A4DB-AC0C84D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4453F-D082-453D-A17C-CEF0EE1E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E3540-E0D1-492F-A1EE-269C456C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1F5C8-C3D6-4DAA-9B8D-AB557DD1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4BD50-D4EF-4168-8021-C17B8F13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771F8-6F24-42F0-A048-B2A94AC1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2CC0F-917B-4CE1-906A-9D3CA3AB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DADF2-28E1-41C1-9EE2-83F31807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33253-1BB5-4999-AFBD-CB3842A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FC0E5-469F-4577-84DD-332FF97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8C4CF-1328-463F-993E-12AEBD39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6577-4865-4D66-8554-9A6BDE6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FD8D9-021C-4AED-9ED5-3EB70347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35BF0-A601-404E-ADC3-CF48EC0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8C443-DE80-4C5F-915B-19B3CE3E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D5CDD-4E41-4E9B-8B87-4B6E6732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1448A-4DCC-4625-A5C4-CD03FC17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50CFE-C828-43EC-BDAF-222335EE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117B8-F44E-45EE-8E33-2FF2AE46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CE4A7-C916-4BB4-81DA-DA1323C5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2A7EA-3496-4A8F-A6D1-0687F6FB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87E24-4145-49F6-8EDB-372A6960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B2D-CBAB-48E3-ACF5-2522215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4A46-CCF5-41CA-B3AE-81C21B58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7D853-1230-4D82-BDD0-859D0376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98D28-73FD-4112-AC3F-CEBE0457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240B0-3B80-4B58-AF0A-F98A2D7D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60A83-DDC2-4905-9C7B-FC9D1742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D62FC-7A5C-4684-BC4E-95D30916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49A0A-6916-49C8-A7E0-2E8CD504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E932E-6F02-4D12-9036-C25634A2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D42E1-D1D2-405E-8808-2E29763F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7BA99-182F-4EC6-AA2D-5D52620A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A394C-66F3-478A-8E0E-EDBFB871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C02C-D21E-47C5-8B36-E9F92572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4EE0F-BA59-4240-AA86-237A630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F12E9-1172-4A48-BA65-F7A3B1DA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4BA6A-F9E6-4A6B-BD6F-B40E84B1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E9E27-B414-4114-9775-59DEA5A7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F1A67E-D256-47ED-8A1A-74F41665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7C33E-277D-47AD-80AA-286A981E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E00B4-52A7-47DA-9AC5-92D7A759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2A286-7C8F-4ADE-912D-30F5E517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0B652-D774-4424-B7D3-B0740ACC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0372E-E9F3-4257-9C79-2DB5622E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FE08-B0AF-4C0F-BA66-82ED23A9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9D662-B20F-400A-8F06-7F4D2AB5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7BE77-5148-4E50-8140-AACA7ADC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37398-698A-4CE4-88B3-ACAC475F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30D54-A840-4782-9A12-4D30D87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1738DF-6BAA-4D5E-8C4A-C70E558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48277-70E6-4692-AB93-984B488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C6EC1-072D-4793-B3E6-D72C5190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CC692-09C7-4850-A2CB-FC4E8E21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E3B4D-6CE5-4EE5-B1FD-F4DF3222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0A3D75-7C7C-4B54-964D-27247D8C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6BDA-5898-4A97-BC47-B388CDFE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A224D8-D3A4-416B-8F93-34A6A046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EDF85-BF79-44AA-BF39-0E20E69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EE158-02A9-481C-9813-C5F2C159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423FC-712B-454E-AE70-3359C872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91F258-BCA7-471C-96FB-8E0C57C5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71EC8D-5781-4AEC-90CF-14863F3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9D0F1-65AB-4411-9CF4-1F741657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43590-0D14-45C1-8273-DE32A114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99AE6E-6B4B-48BB-B861-2A03AAC9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119DE-EA33-4A87-A010-A400D2F4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A30-77F8-4830-93C9-8CDD458D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DD29C3-B5EF-42BC-BF7F-AAB9E61A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2A2C-DAA4-463E-BE2C-A87CF657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D723-0C9A-4C53-A783-BC33B9A6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00CB-162F-46FB-87FE-DDA221F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826A-2083-4D5A-BB20-E1F9144F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1BC0-43BB-4974-9647-321C8D74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C1A-C510-4501-9242-3D91628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9E97-1D9C-4436-AD4B-5C71E01E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F938-BC41-493C-A030-BCBB0068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CD47-86C7-4317-AF47-7EF71172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BCE0-1454-4B78-9082-244E8DC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E3D0-DFB9-4836-B438-7EA00A46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7399-6440-4C76-96D1-8E996691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2B91-7B72-4FB9-8FC2-82C9B66F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8D0E-8EC8-43F7-B917-7E13AED2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46AC-FFCA-4257-B315-9FB9F799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918C-FEFA-465A-AD72-14DC1558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A26-B06F-45F2-9C5E-F745CE0B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8924-6237-41FC-B5AA-757E06B1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DFE3-F31E-4DB5-BE39-2A9B79F1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66D4-F104-4D3C-BE1D-97DA1361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A94E-21A2-4C1C-8C65-24B31202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D317-A115-4990-A3C4-3F9861D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A568-740D-4832-8460-6EB6B41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5A9C-0206-4EDF-B91D-7FB62F37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E9935-4C0F-4F68-AD5F-ED42A89B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CE1A-EBE6-49AB-B0CC-085E9A03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776BF-BA6A-492B-97BB-6A2DF54F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BB1-2C50-4701-B06E-AA9D84EA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DB79-723F-405A-9BDE-06E8AB8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C2BA-97AB-4065-A210-B31D2A2C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505A-68A6-4467-9575-24A2F520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DBF50-4FB3-4BB0-82C2-F9FC3348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99CA-E8D2-43B6-B4AC-A4FE6859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8A3E-5EF1-4646-BBDD-9DFB6859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592AF-ECBF-4574-BA97-AEAB9D4B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5DA2E-20E1-4071-96A6-735B7FC6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D9D7-A156-4322-9666-8A3F3704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D9A96-195C-4678-89BD-B3A32CD6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F0D-F46D-46D3-AF60-A627CAED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0FC4-975C-4786-992F-941AA242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E0DA-E8A7-4C8E-B5FC-4403D3AC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8408E-4BD9-41DE-9F25-DD4CE40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0A9D-14F8-444D-9439-97CA308E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31A10-975F-431F-9A3E-DAE826CD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E57D-EEE4-4ADD-B185-05ABD7A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71E84-0778-42FB-8CAD-640204EB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DD1C-78CA-4115-841A-39AEEA43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284B3-2CF2-42EC-893D-000EB80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3EBA7-6847-49E9-8A0C-07685CB1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F75-507D-4AEF-9A4A-8AC575A1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D666D-7462-4EE8-B704-1F71BF1A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EA97-47D7-4B2C-933C-B7C78BC2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D9BA9-B8A8-4294-8014-73FEB688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0CAAB-4254-44C2-B76C-71208C30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F318C-16D2-4D26-AEF1-CA4934FC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20BE1-9596-4FE2-BAB4-17D9B420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7477D-DF3F-4BC1-A50B-46B5F9D0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C644C-BDA9-4397-BD3F-619C187A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A4442-F80B-4E96-AA69-A2B5D724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E221F-EF6B-4FC9-B250-B308BF63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070-FF5F-410C-B4D7-B3069C47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EC62E-D512-4091-8782-30C3F84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BE4F7-BE51-44E4-892C-46CB52E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369C9-5D53-40E6-8540-C7ED514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434C-A556-4EC4-9059-0F9C8869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F492-E52F-4B5B-89C2-D078AD98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0DA9C-CC4B-42E9-B46E-3632CB05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1B1BC-0653-424E-8864-C7767B73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8DB65-0414-4B55-986E-3F41B408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7DF24-E3F5-41F7-B6E2-96B12439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79B81-B5B2-41AA-8E23-F6612160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5D3-8A97-496E-8765-6F5C1CE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BA42-01B1-4E85-9A40-319F210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3B65E-56B0-499C-AE33-F715CF86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DD2C-5669-4DD4-89F4-34EBDB1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F858-1757-4DE0-B00A-4862987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9BCE2-1168-4C5B-B6DF-35223B11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0D679-91E6-4B22-A0F4-37DD871A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CF31-F338-4219-B908-5EBD96C6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36BDB-0684-4665-B929-BD088C83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7236F-5095-4713-9F2C-08F9833D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3ED3A-9FC1-409C-BF86-74389878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D651-FFB0-4515-A142-18125670612D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F6D4-EB6A-4110-96BF-510AEBC14240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8335-8A47-4AFD-84AF-D7BE1FF5C1EE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1A20-4E79-4E50-99C9-71C496E24F70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A68A-6860-4AB6-BF48-597F78B3ACDB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E0B5-C30E-45DF-985A-1C15DCF90BF3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DA03-617C-48B4-AE5E-292EF8029529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6EEC-FF83-49C8-9CE1-100C4D90EF60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4E58-B82C-41F9-95F7-41FD7DBEEF18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5EB7-73EB-4351-92DC-5A2B73E7C114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580D-E72C-4EC5-B1CF-5257F0CF431F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7F5F-A1F5-46E0-AC66-96505092A68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6A33-1A24-4F8A-B907-8E18BD8AD76C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5441-2F70-44E8-AD1B-B8B2531664DE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263A-E9DA-46F9-B8C8-C4A2F27491FE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1F84-6C25-4F69-BED5-0B5F6264C221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EC3D-938C-4582-90BC-15D1DC7093EC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A249-A9B3-4B01-B105-E35E1CADF336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8ECC-AF6F-4147-AF94-A328A2D5E701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65C2-320F-42FD-A8D4-EBE8FE1F1C5E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HEM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lead to health disorders at home and at the workpla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egree of herd immunity required to prevent disease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vari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from disease to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bility of individuals to transmi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length of its contag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ode of transmiss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ize of the coll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the relationships within it (closeness and intensity of contact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existence of collective immunity can be explained by: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bsence of an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a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yclical variatio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some infectious diseases, especially those transmitted by droplets, that is, by direct contac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ces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lf-regul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epidem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totality of external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living and non-livin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that act on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pecific unit or ecological communit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determining their development and surviv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 (Ecospher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ayer of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rth's cru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including water and air, in which all the living world is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- ge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- bi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cience of the relationship between living beings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surrounds them (other individuals of the same species, flora and fauna and the entire inanimate nature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DICAL (HUMAN) EC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studie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relationships between man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have an impact on healt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1. 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includes inanimat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n-living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- the geosphere (water, oxygen, minerals...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m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ydr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h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ABIOTIC (GEOPHYSICAL) ENVIRONMENT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the non-living environment that affect the distribu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health and dise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demic goi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lack of iodine in so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luoros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tooth damage due to increased F2 content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ung canc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creased emanation of radon from the soil increases the natural radioactivity background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he most important chemical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stic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insec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fung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herb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food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synthetic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preser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antioxid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icin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omposition of the soil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ypes of flora and fauna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e way of human nutr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il permeability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water supply, water p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in the karst regions, there is a risk of hydric epidemic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RECT influenc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n the topographical distribution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hanks to the English Channel, there is no rabies i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connection of terrain with river valley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influenc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n the topographical distribution of the disease - The configuration of the terrain determines where the settlement will be buil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fects the degree of air pol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košava in Bel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he location of Sarajevo in the bas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most important for the epidemiological situation are the geographical factors that determine the climatic conditions (latitude, altitude)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lar rad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cip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ffect health DIRECTL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heatstroke, frostbite, "white death"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act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urvival m.o. in the extern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e type of flora and fauna affects the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eservoir and carrier behavior (wintering rode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behavior of other animal species (in the temperate zone of the country they do not bite during the cold peri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ctivity of the man himself (field work, hunting, summer vac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1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Living beings and the relationships they establish with each other (depend on social organization and degree of evolutionary developm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lonies of flies and b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commun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2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IRECT EFF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s or plants lead to disorders of human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ectious disease agents (viruses, rickettsiae, bacteria, fungi, protozoa and multicellular parasi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plants (head of rye, corn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animals (spiders, snak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ypersensitivity to otherwise harmless plants and animals (pollen, feathers, etc.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INDIRECT EFFEC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 reservoirs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probability that ticks transmit Lyme disease depends on the type of vegetation (tall grass), the type and number of animals on whose blood the tick f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choice of profession and the type of economy of the social communit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LUENCE ON PEOPLE'S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the past (plants, animals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malnutrition, dying of hunger and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day, relationships in the human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cio-economic status, available patterns of behavi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ffec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ifestyle (diet, smoking, physical activity, alcohol consumption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behavior (certain habits) has an impact on the structure of illness and death (on national patholog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mmunities affected by rapid social chang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or countries becom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"welfare states"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duced physical activity, increased obesity, more diabetes and heart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"/>
          <p:cNvGraphicFramePr/>
          <p:nvPr/>
        </p:nvGraphicFramePr>
        <p:xfrm>
          <a:off x="152280" y="152280"/>
          <a:ext cx="8763120" cy="6524640"/>
        </p:xfrm>
        <a:graphic>
          <a:graphicData uri="http://schemas.openxmlformats.org/drawingml/2006/table">
            <a:tbl>
              <a:tblPr/>
              <a:tblGrid>
                <a:gridCol w="1866960"/>
                <a:gridCol w="2933640"/>
                <a:gridCol w="3962520"/>
              </a:tblGrid>
              <a:tr h="1189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AGEN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ON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RGANIC (halogen elements, CO, Pb, Hg, acids, base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 (chloroform, ether, alcohol benzene, phenol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BIOLOGICAL origin (toxic mushroom toxins, alkaloids and glycosides of plant origin, snake venoms, insect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emia, hepatitis coma, diabetic coma, hypoglycemic crisis, hypercholesterolemia, hormonal imbalanc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6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olent destruction of existing social relations (wars, revolution) leads to worsening of the epidemiological situ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BIOLOG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uses of infectious disea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ickett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un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tozo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tazo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aracteristics of living agents on which the emergence of INFECTIOUS diseases depends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xcretion from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ntering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acteristics of living causative agents on which the occurrence of INFECTIOUS disease depends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mmun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ensitivity and resistance to drugs and disinfec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istance in the external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– Chernozubov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Obligate parasites outside the body perish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measles, syphilis, gonorrhea, epidemic mening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They survive outside the body for a while, but do NOT reprod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B bacillu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- Chernozubov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OUTSIDE THE ORGANISM, under favorable conditions, they RE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. typhoid, paratyphoid, cholera, dysen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4. They survive for a long time in the external environment in the form of SP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naerobic bacteria - causes of tetanus, gas gangrene, botulis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eatures of the biological agent responsible for the occurrence of infectious dise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 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? Physiological characteristic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? The ease with which the disease is TRANSMITTED to other h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? The ability of the agent to PENETRATE the host, MAINTAIN itself and REPLICATE (develop in i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LESSON 3 (THIRD WEEK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log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of infectious agents and source of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focal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on. Basic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pollution. Environment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LUENCE OF VIRULENCE AND THE QUANTITY OF GERMS ON THE DISEASE AND EPIDEM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IRULENC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gree of pathogeni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ariable property of microorg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 and environmental factors alter virulence(S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bility to attenuate virulence is used to produce live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number of passages on artificial feeding groun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ttenuation, retain their antigenic properties (live vaccines - MoRuPar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ppearance, course and outcom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ydric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an incubation period longer than average for a given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subclinical and mild atypical infections than exp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thality lower than a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For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limentary epidem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the opposite is tru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Infectious dose required for certain infectious disease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.000,000 cholera g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000 germs for t. typh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 germs for dysent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um amount for transmissive and some respirator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gnificant in undertaking preventiv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coming into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ontact with a small amount of the causative ag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we prevent the occurrence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ubclinical infections develop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OST = reservoir and/or sourc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514600" y="3352680"/>
            <a:ext cx="4114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ical Triass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4116600" y="11422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230040" y="51048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6901920" y="525708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ESERVOIR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A person, animal, arthropod, plant, soil or substance as well as a combination thereof in which an infectious age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ormally LIV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from which i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be transmitted to a SUSCEPTIBL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habitat of the infectious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ofte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t is a living organism, but it can also be an inanimate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il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ores of tetanus, gas gangrene, anthrax, parasite egg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scarias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t water pipe system (show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conditioning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humidifying condense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ecessary component of the life cycle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or more reservoirs involved in the circulation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single host as a reservoir of infection is included in the simplest life cycle mode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4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 infectious agent circulates in nature thanks to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agent from person to pers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most infectious diseases (streptococcal and staphylococcal infections, diphtheria, sexually transmitted diseases, child rash fever, parotitis, typhoid fever, amebia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factor whose presence, abundance or relative absence is a NECESSARY CONDITION for the occurrence of a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n can also be a reservoir for some diseases that are transmitted to him from animals (anthropozoonose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vine TB (from cow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ucellosis (from cows, pigs, go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ax (from shee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ptospirosis (from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abies (from dogs, foxes, wolves...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most complex agent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logically different reservoirs and different developmental stages of the infectious agent (echinococcosis, schistosomiasis and malaria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finitio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person, animal, object or substance from which an infectious agent is TRANSMITTED to a susceptible host at a certain moment and leads to the appearance of a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drinking water contaminated with S. typ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a salad contaminated by an infected coo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MOST IMPORTANT RESERVOIR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"/>
          <p:cNvSpPr/>
          <p:nvPr/>
        </p:nvSpPr>
        <p:spPr>
          <a:xfrm>
            <a:off x="5565600" y="20566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5490360" y="4037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8"/>
          <p:cNvSpPr/>
          <p:nvPr/>
        </p:nvSpPr>
        <p:spPr>
          <a:xfrm flipV="1">
            <a:off x="4038480" y="24379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9"/>
          <p:cNvSpPr/>
          <p:nvPr/>
        </p:nvSpPr>
        <p:spPr>
          <a:xfrm>
            <a:off x="3962520" y="35812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Man as a reservoir of infectious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as a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yconoser as a 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dromal s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severe form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mild form of the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 the prodromal stag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the largest number of germs are excreted, the highest infectiv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atarrhal stage of measles, varicella, rubella, vari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icteric stage in viral hepat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milest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sufficiently expressed symptomatolog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not possible to make an exact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asles (measles, variola, varicella, rubella, scarlet fev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seudomembranes on certain organs (diphtheria, inflamm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tussis (pertuss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ingeal syndrome (epidemic menin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ipheral paralysis (polio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have no epidemiological signific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was mad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solation and treatment set in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n drops sharply and lasts for a short time (viral hepatitis A, pertus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evere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fudroagent, fulminant, malignan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ath occurs before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d a large amount of g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variola (variola conflu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droaiant form of epidemic 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diphtheria c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scarlet f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lgid form of cho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patitis A in pregnant wom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agent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t mutually unrelated agents (alternative effect)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complex of two or more agents (cumulative effect)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ambulatory, abortiv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don't go to the do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is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re not treate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(ambulatory, abortive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inadequately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aricella, measles, ru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scarlet fever without r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inflammation without pseudo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ertussis without pri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ambulatory form of typhoid f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ommon diarrhea in dysentery and chol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poliomyelitis with catarrhal changes on 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p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 and git. 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iral hepatitis A in childr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deviate from the characteristic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more intense or mild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se patients are epidemiologically very importa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MAN -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IEN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NON-MANIFEST form of the disease, the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significance gr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king the diagnos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ARRIERS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cubation 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rriers after an illnes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-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g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hronic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persons whose infection is inapparent throughout its 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 clinical picture-symptoms and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ads to seroconversion as an objective sign of infec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arise in the case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small number of 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eakly virulent s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artial (specific or non-specific)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leaves immunity of the same quality as in the case of a manifest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diagnosis is made exclusively in the laboratory (isolation of the causative agent, serological re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ccur if there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sence of dis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Healthy or asymptomatic carrier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It is difficult to distinguish them from non-manifest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Excretion of caus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is short-l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ppear during an epidemic of the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mong the persons in the patient's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those who take care of the s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rarely discovere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ore dangerous than germ carriers after previous ill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*)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seases with a high clinical manifestation index (ICM) do not leave germs even after the disease has passed: Measles, varicella, rubella, variola, influenz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Classifications of agents and their characteristic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umer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mpl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ts can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Phy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Chem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3. Biologic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UNMANIFESTED in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importance is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riers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uring incub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= from the penetration of the infectious agent into the host organism to the first symptoms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Short incubation (cold, flu, bacillary dysentery, SP infection, SF intoxic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Long incubation (AIDS, hepatitis B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What affects incub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as number and virule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st sensi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lace of entry into the body (shorter incubation in tetanus after head and neck injur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 in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NCUBATION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. The patient in incubation is NOT a reservoir of infection (chickenpox, variola, measles, pertussis, flu, typhus, paratypho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2. The patient is a reservoir of infection AT THE END of incubation (parotitis, acute viral respiratory diseases, poliomyelit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The patient is a reservoir of infection during a LONGER PERIOD (hepatitis A - second half of incubation, hepatitis B - several weeks in the second part of incubation, hepatitis C - one or more weeks in the second part of incubation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AN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or acute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ronic germinabil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TER HAVING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CUTE carri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fter clinical recovery, people excrete pathogens for a short time (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ximum 3 month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nvalescent, transitory, temporary especially if there was no adequate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RONIC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athogens even 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fter 3 m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 from a chronic illness (several years or until the end of life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 pathogens even after 3 m. from 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quired diseas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several years or until the end o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y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asional (intermitt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rmanent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acillary dysentery – more m. up to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. typhus and paratyphoid – 2-5% of people; in those with chronic inflammation of the gallbladder, bile duct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 renal pelvis, urinary bladder; can b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fecal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urinary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ore dangero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l tor cholera – r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amonellosis – 1% of adults, 5% of children up to 5 years old; longer tha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CHRONI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hronic inflammation of the mucous membra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P infections -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patitis B – transplacental transmission, HIV, Down's syndrome, hemodialysis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alaria - untreated or insufficiently treat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alciparum –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vax 1-2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quartana – &gt;3 yea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ome diseases (measles, chicken pox, influenza) there is NO asymptomatic 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valescen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om an epidemiological point of view,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 can be more dangerou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n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is discovered and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rriers move freely and spread the infection to susceptible peop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nsity (phys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(chem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(biological agen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Si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xcrete a large amount of ger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Q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etc. domestic animals, rod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opozoono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rticularly importa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eases of animal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hat can also affect huma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otspo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the wild (wild anima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human settlements (domestic animals, wild animals -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f all animal diseases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nthropozoonoses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(animal diseases from which humans can get sick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e especi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ronounced clinical sig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animal diseases: anthrax, TB, rab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zoot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 with high mortality: plague, tularemi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commonly infected animals do NOT show any signs of illn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xcrete a huge amount of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o the environ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with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in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rodents... with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ons are often maintaine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zooticall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 free nat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mong wil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domestic animals and synanthropic rodents (mice, ra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nthropozoonoses according to et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Bacterial: anthrax, bovine TB, tularemia, leptospirosis, malleus - sakagia, pl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ral: rabies, psittacosis-ornithosis, слинавка-шап, yellow fever, seasonal encephalitis, viral hemorrhagic feve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Rickettsial: Q - fever and other spo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reckl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tozoal: toxoplasmosis, schistosomiasis, leishmaniasis, trypanosomi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lminth infections: taeniasis, echinococcosis, trichin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ungal: microsporia, trichophytia, fav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nfections of natural foc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(environment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r less limited areas in free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rmanently inhabited by certain types of organisms that make up the biocenosis (living communit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 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Highly infectious agent → single exposure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Other infectious agents and many non-living agents → larger quantity; longer action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and biocenosis are connected into a unique whole, a system of a higher rank, the so-called ecosystem or geobiocen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FOCU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that, together with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vertebrate ho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(and in the case of transmissible infections, the vector population), in a certain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iotop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connected by food chai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person accidentally exposed to infection during the following activ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resters, soldiers during the camps. and marches hunters, scientific research teams, mountain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frequency of infection of people staying in a natural hot spot depends 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t spot valences (hungry ticks and ins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umber of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posure length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natural focal infections? funga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viruse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rotozoa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acter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ricketts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elmi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causative agen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n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animal species involved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ingl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-fami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donor and receptors (recip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onor and receptors (recipients) of the causative agent are populations of various specie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wild vertebrat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hosts of the causative agen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vision of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ccording to vecto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sects and spider-like arthropods) that participate in the transmission of pathogen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ngle 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lti-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litting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y siz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ocal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reproduction of wild animals, vectors and microorganisms is aff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asonal chang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activity of a natural hotspot (extinguishing or moving away from human settlements) is influe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uman activ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NTHROPURGIC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earch of food, wild animals br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ot spots closer to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lude domestic animals and rodents in the enzoot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rimean-Congo hemorrhagic fev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487692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CHANISM OF MAINTENANC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57200" y="1600200"/>
          <a:ext cx="8229600" cy="222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ion of causative agents in the form of a primary, independent epizootic proces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nsitive anim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or animal (receptor)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ly manifestly ill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inical for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Line 4"/>
          <p:cNvSpPr/>
          <p:nvPr/>
        </p:nvSpPr>
        <p:spPr>
          <a:xfrm flipV="1">
            <a:off x="4343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>
            <a:off x="44197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56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vention of natural focal infections? It is based on knowledge of the characteristics of the enzootic process in a specif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izing contact with the reservoir and carrier of pathog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rruption of the circulation of the causative agent in the natural focus (maximum reduction of the number of reservoirs and carrier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emperature (low and hig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onizing ra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chanical agents (mechanical force, sound, shock, vib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lead to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work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sports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wa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digestive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sible mucous membran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ONE entry 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kin - transmissible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gestive tract – most intestinal infectious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MULTIPLE points of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304920" y="1208160"/>
          <a:ext cx="8686800" cy="5661000"/>
        </p:xfrm>
        <a:graphic>
          <a:graphicData uri="http://schemas.openxmlformats.org/drawingml/2006/table">
            <a:tbl>
              <a:tblPr/>
              <a:tblGrid>
                <a:gridCol w="2819160"/>
                <a:gridCol w="2438640"/>
                <a:gridCol w="3429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entry poin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tive agent, diseas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de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trance plac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ptococcal infection, diphtheri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le mucos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sa of the digestive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 viru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of the respiratory tra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x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digestive and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nd macro lesions of the skin and visible mucous membran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ospiro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ane of the digestive tract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Flammable process at the front doo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457200" y="1600200"/>
          <a:ext cx="8229600" cy="510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, bacillary dysentery; cholera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flammatory process is retained exclusively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t the point of entry</a:t>
                      </a:r>
                      <a:r>
                        <a:rPr b="0" lang="sr-Latn-C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SP infection; epidemic mening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s penetrate further into organis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hepat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s in the entry site, but in the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rgans for which the causative agent has an affinity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-152640" y="0"/>
            <a:ext cx="9296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PIDEMIOLOGICAL CLASSIFICATION OF I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DISEAS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(made on the basis of th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MAIN entry point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of the causative a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0" y="762120"/>
          <a:ext cx="9144000" cy="6126120"/>
        </p:xfrm>
        <a:graphic>
          <a:graphicData uri="http://schemas.openxmlformats.org/drawingml/2006/table">
            <a:tbl>
              <a:tblPr/>
              <a:tblGrid>
                <a:gridCol w="2057400"/>
                <a:gridCol w="70866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les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olds, mumps, whooping cough, scarlet feve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oid fever, paratyphoid A, B, bac. dysentery, vir. hepatitis A, polio, cholera, food poisoning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ria, spotted typhus, relapsing typhus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ow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ver, dengue, papatachi fever, leishmaniasis, trypanosomia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unculosis, carbunculosis, phlegmon, impetigo, actinomycosis, trichophytia, favus, erysipela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nd infection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anus, gas gangren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homa, blenorrhea, conjunctivitis of various etiology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e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orrhea, syphilis, HIV infection, viral hepatitis B and C, genital herp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efinition: the tendency of the host to get sick from certain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ries under the influence of various factors, the so-called DISPOSITI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eparate from factors that increase exposure to the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eases are the result of the action of both, so we call them together conditioning factor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 FACTOR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THNIC AND RELIGIOUS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U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OCIO-ECONOMIC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THER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both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position and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ILDREN have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disposition towards the causative agents of poliomyelitis and viral hepatitis A, and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endency towards coliform bacteria and staphylococci; due to undeveloped hygiene habits, they are more exposed to intestinal 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DULTS are more exposed to sexually transmitted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sensitivity and more frequent illness of women from some infectious diseases is a consequence of certain physiological conditions 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struation (+ tuberculin test, can become 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gnancy (infections of the renal pelvis with conditionally pathogenic agents are more common; the clinical picture of viral hepatitis A is more sev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fferences in the frequency of certain diseases in men and women are not only a consequence of biological differences, but also differences in lifestyle, that is, exposure to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raffic trauma has a significant place in the structure of mortality in developed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hysical agents lead to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vidual ill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ss health disorders (nuclear accidents - Chernobyl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acial affili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ften they suffer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uberculosis, syphilis, pertussis – bl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liomyelitis - wh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CES as a result of the influence of other factors (habits, customs, socio-economic conditions), and not biological peculiarities of ra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thnicity and relig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slims are less likely to suffer from trichi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sequence of lifestyle, habits and custom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impact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occupation on disposition is difficult to ass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ttle breeders and veterinarians are more likely to suffer from some anthropozoonoses, and foresters from 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higher frequency of certain infectious diseases among members of certain professions is mainly a consequence of greater expos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cio-economic situ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way of life, living conditions and hygiene hab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improving the economic and hygienic level, the frequency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stinal infectious diseases is reduced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Urbanization with accompanying overcrowd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ilitates the spread of respirator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fectio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e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adequat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ake of proteins and some vitamins (A, S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reases susceptibility to infectious diseas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tarv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reduces the ability to create antibodies as well as the phagocytic ability of leukocyt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ther diseas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ny infectious and non-infectious diseases increase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tendency to oth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non-infectious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bacterial pneum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iabetic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infections caused by pyogenic bac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easles and pertussi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crease susceptibility to bacterial lung infections and activate tuberculosis fo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reduces resistance to inf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umber of changes occur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demics of mening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soldiers after a strenuous march, or more frequent occurrence of clinically manifest form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oliomyel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exhausting play of children infected with the causative agent of this disease, have been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cording to Selye, various stress factors, including fear, strong emotions, trauma, intense exposure to cold or heat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affect the reduction of resistance to infection through the pituitary adrenocortic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OLLECTIVE IMMUNITY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finition: the resistance of a population to certain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dividual immunity reduces the likelihood that an individual will contract a particular disease when exposed to an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llective immunity reduces the probability of an epidemic after the introduction of an agent into a population or collective, regardless of the fact that some people in that population are still susceptib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measured by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oportion of immun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eople in a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has significance for the epidemic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makes it possible to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edict the cours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epidem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high % of immune individuals in the population reduces the possibility of contac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etween the infected and the suscept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mmune population represents a b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to the spread of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GI</dc:creator>
  <dc:description/>
  <dc:language>en-US</dc:language>
  <cp:lastModifiedBy>OGI</cp:lastModifiedBy>
  <dcterms:modified xsi:type="dcterms:W3CDTF">2023-09-26T10:20:31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